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666A-0021-4495-BBA0-692032633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1A0C-51AB-4EC9-9C1B-2EF15E9B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9577-C11F-4EA4-8AF6-2D2CFE676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C50C-90AD-47BD-9288-363E641A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9516-CA69-4B00-9F1F-1913A90A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1CD8-A16E-49E5-9470-4AEAEE29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5E8B-8D8E-4B25-BB5A-B7EDB1CA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3B97-D725-43A7-8F2B-2B0964BC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58FE-7C1E-4014-B912-4A108B15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3D8D-E92C-4F8B-B893-F0744C7A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5F80-D47D-4481-BEBC-E3390074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C59A-9A93-4DCC-98B0-8317C20A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E0D0-4575-4CD3-90F1-5FFE71B0D400}" type="datetime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B0D7-F179-4337-BD34-3F8C5DE07482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Nature of Scie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down 5 observations from the picture below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" name="Picture 2" descr="http://www.mrhatten.com/images/me-crime-scene.jpg"/>
          <p:cNvPicPr/>
          <p:nvPr/>
        </p:nvPicPr>
        <p:blipFill>
          <a:blip r:embed="rId1"/>
          <a:stretch/>
        </p:blipFill>
        <p:spPr>
          <a:xfrm>
            <a:off x="1752480" y="2400480"/>
            <a:ext cx="563904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inference can you make  from your observations? Write them dow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" name="Picture 2" descr="http://www.mrhatten.com/images/me-crime-scene.jpg"/>
          <p:cNvPicPr/>
          <p:nvPr/>
        </p:nvPicPr>
        <p:blipFill>
          <a:blip r:embed="rId1"/>
          <a:stretch/>
        </p:blipFill>
        <p:spPr>
          <a:xfrm>
            <a:off x="2133720" y="304812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 2: Using your observations and inferences, what could have happened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0720" y="2590920"/>
            <a:ext cx="769608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a list of possible scenarios with the picture as the final sce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additional information would you like to have? Make a list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40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you write your own story based on your observations and inferenc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53341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18:18:24Z</dcterms:created>
  <dc:creator>Administrator</dc:creator>
  <dc:description/>
  <dc:language>en-US</dc:language>
  <cp:lastModifiedBy>CAC CAC</cp:lastModifiedBy>
  <dcterms:modified xsi:type="dcterms:W3CDTF">2011-08-21T05:36:26Z</dcterms:modified>
  <cp:revision>17</cp:revision>
  <dc:subject/>
  <dc:title>Welcome to Science Class</dc:title>
</cp:coreProperties>
</file>